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447-C06B-435B-9116-EDDE0617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7E1-CC5B-49B2-9BC2-A84032B1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056-111D-4A33-A47D-5F8215FC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D33-54AA-4DC4-AC2C-D126105C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F7E3-7E27-46EE-9FC5-6B231FFB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D00E-6622-43F3-ABF4-2A284DAD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7216-CF07-4767-948C-901E154F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BDDA-877F-4FFF-9044-CAFAB927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303A-45DC-4ED9-9F44-1CDBFAF0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17ED-3378-44D8-B7CF-E632244D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1C51-5A76-487F-9EA4-75DFB7B0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09E-5093-44E2-AF09-D7CA44FF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FD62-7AF9-4FE8-9C40-0B56DE68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3048-A3F0-4668-93DD-BECD0F49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DAD4-8B21-4148-A212-9DA5097E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66E7-0E8D-4589-A3FB-535E383B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E7F1-E8C2-4963-A873-3D7E9120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FF0-D642-4800-9BC7-BF18B1E7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7ED-0919-4455-A062-9977F76A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8EB-6702-4641-B9AA-76A12830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558-0ACE-4C12-A32E-46F7E2DC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4FD-FC15-4486-B391-BADC6596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57D-84AA-49A1-8F73-7861A2D4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32D-5248-42EB-A696-E9C4AAEC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5CE7-0204-45A7-9CDF-68BF1B3319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E67B-8E19-482D-A152-5B36937A15E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Учебные задачи и учебные действия при 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боте с одаренными детьми, соблюдение  преемственности при подготовке к олимпиадам.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9280" y="5157360"/>
            <a:ext cx="5688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rcRect l="27692" t="0" r="27583" b="0"/>
          <a:stretch/>
        </p:blipFill>
        <p:spPr>
          <a:xfrm>
            <a:off x="6156360" y="3645000"/>
            <a:ext cx="280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50920" y="907560"/>
            <a:ext cx="77724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. знание речевых норм русского языка и понимание их обусловленности языковой системо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выки синхронного и диахронического морфемного и словообразовательного анализ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нание морфологической системы русского языка и навыки морфологического анализа сло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нание синтаксической системы русского языка и умение анализировать синтаксические явления повышенной слож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ипы заданий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ния условно можно объединить в три больших блока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ест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ч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ворческие зада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ния тестового характера могут проверять знание трудных случаев орфографии и пунктуации, владение орфоэпическими и грамматическими нормами, навыки морфемного и синтаксического разбора и т. п. (</a:t>
            </a: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ставьте пропущенные буквы…, раскройте скобки…, расставьте знаки препинания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…, </a:t>
            </a: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дчеркните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…, </a:t>
            </a: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ыделите графически…, постройте схему…, укажите номер правильного ответа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…, и др.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190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нгвистические тесты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нгвистические задачи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99640" y="1857240"/>
            <a:ext cx="8055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ингвистические задачи – это задания эвристического характера, требующие а) знаний в разных областях русского языка, б) навыков морфемного, словообразовательного, этимологического, морфологического и синтаксического анализа, в) языкового чутья и лингвистической догадки, г) использования общих исследовательских приемов (наблюдение, описание, сопоставление, систематизация, обобщение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27692" t="0" r="27583" b="0"/>
          <a:stretch/>
        </p:blipFill>
        <p:spPr>
          <a:xfrm>
            <a:off x="7380360" y="1778040"/>
            <a:ext cx="1282680" cy="1913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626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ворческие задания, направленные на создание развернутых высказываний, текстов также можно рассмотреть в составе двух групп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ворческие задания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539892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0080" y="201456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группа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 модели текста к тексту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группа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 текста к текст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6786720" y="4071960"/>
            <a:ext cx="135396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65000"/>
            <a:ext cx="779292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6520" y="2060280"/>
            <a:ext cx="841536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ния первого типа обнаруживают владение навыками построения связного тематически целостного и стилистически единого текста, умение выбрать форму, соответствующую содержанию</a:t>
            </a: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71280" y="2060640"/>
            <a:ext cx="79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f0"/>
                </a:solidFill>
                <a:latin typeface="Tahoma"/>
              </a:rPr>
              <a:t>Утро было славное, свежее; маленькие пестрые тучки стояли барашками на бледно-ясной лазури; мелкая роса высыпала на листьях и травах, блистала серебром на паутинках; влажная темная земля, казалось, еще хранила румяный след зари; со всего неба сыпались песни жаворонков. И т.д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ahoma"/>
              </a:rPr>
              <a:t>Прочитайте фрагменты романа И. С. Тургенева «Отцы и дети» и найдите в них слова с уменьшительными и оценочными суффиксами. Какие значения выражают эти суффиксы? Какие слова текста помогают это определить? Обобщите свои наблюдения в виде вывода, оформив его как многочленное сложноподчиненное предложение.</a:t>
            </a: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нную работу можно вести следующим образом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 каждом уроке проводить орфоэпические диктанты, упражнения по орфоэпии, тесты, то есть работа должна быть непрерывной, постоянн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вать навыки работы с орфоэпическим словар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ктивно использовать слова, включать их в тексты, предлож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меры заданий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сставить ударения в слов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сставить ударения в словах и расположить их по алфави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пользовать орфоэпический словарь при работе со словами, в которых чаще всего делают ошибки при произношен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  с фразеологическими  оборотам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000" y="201780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ы задан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. Замените данные фразеологизмы синонимами или синонимичными выражениям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час по чайной ложке (Очень медленно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. Запишите фразеологизмы, в которых есть упоминание о числе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емь пятниц на неделе, заблудиться в трех соснах, с пятого на десятое и т.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3. Раскройте, какие фразеологизмы здесь спрятаны: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едонгиеасспсмб (сам себе господин), ияскзбвяетрьув (взять себя в руки), вчьуоутлвсдоотпе( толочь воду в ступ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546120"/>
            <a:ext cx="8298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«…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таланты являются всюду и всегда, где и когда существуют условия, благоприятные для их развития»</a:t>
            </a:r>
            <a:br>
              <a:rPr sz="2400"/>
            </a:br>
            <a:br>
              <a:rPr sz="2000"/>
            </a:b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95280" y="213372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755640" y="2286000"/>
            <a:ext cx="64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ча семьи состоит в том, чтобы вовремя увидеть, разглядеть способности ребёнка, задача же школы – поддержать ребёнка и развить его способности, подготовить почву для того, чтобы эти способности были реализов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330960" y="4537080"/>
            <a:ext cx="24940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ния, связанные с историей языка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тория буквы Я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ие буквы исчезли и какие буквы появились в русском алфавит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тория букв Ё и Э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онетические старославяниз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разеологизмы со старыми названиями букв (сидеть на азах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торизмы и архаиз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ереводы старославянских текс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торические чередо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 другие те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меры заданий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ние 1.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сстановите термины, называющие отдельные  отрасли лингвистики. Что изучает каждая из н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…</a:t>
            </a:r>
            <a:r>
              <a:rPr b="0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огия, …графия, …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ние 2.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 букварях и орфографических пособиях </a:t>
            </a: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XVII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XIX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вв. этот орфографический знак называли </a:t>
            </a:r>
            <a:r>
              <a:rPr b="0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динитный, единительный, знак единительства.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Как называется этот знак сегодня? Каковы его функци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36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аким образом, участие в олимпиадах стимулирует переход школьников к более высокой форме учебной деятельности, мотивирует личностное и интеллектуальное развитие подрастающего поколения. Роль учителя в этом очень вели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круг его деятельности входит выявление одаренности у обучающихся, планирование работы с ними, подготовка к олимпиадам по русскому языку и литературе, а также последующая работа по развитию их одареннос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ажно не потерять ни одного талантливого школьника и предложить ему разные формы последующей научно-образовательной работы. Лишь в  этом случае мы сможем вывести страну на более высокий и престижный уровень развития образов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дачи Вам в ваших начинаниях!!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ОВРЕМЕННЫЕ ПОДХОДЫ К ПРОБЛЕМЕ ОДАРЁННОСТ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Талант- результа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сложного взаимодействия наследственности и социальной среды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опосредованного деятельностью ребён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Школьное образование сегодня- решающий фактор индивидуального успеха и развития страны в дальнейш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2854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mbria Math"/>
              </a:rPr>
              <a:t>К группе одарённых детей могут быть отнесены дети, которые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меют более высокие по сравнению с остальными интеллектуальные способ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меют доминирующую,  активную, ненасыщаемую познавательную потреб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пытывают радость от умственного тру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ля таких детей характерна высокая скорость развития интеллектуальной и творческой сфер, глубина и нетрадиционность мышл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обходимо разработать отдельную программу по подготовке к олимпиа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ставить индивидуальный образовательный маршрут для каждого члена коман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рганизовать работу учащихся с психолого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Форма рабо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ндивидуаль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рупповая (в малых группах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амостоятель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актические занятия      тренировоч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характе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Объект 6" descr=""/>
          <p:cNvPicPr/>
          <p:nvPr/>
        </p:nvPicPr>
        <p:blipFill>
          <a:blip r:embed="rId1"/>
          <a:stretch/>
        </p:blipFill>
        <p:spPr>
          <a:xfrm>
            <a:off x="5857920" y="4000680"/>
            <a:ext cx="2962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ы работ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исков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облем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следовательски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ворче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143760" y="3857760"/>
            <a:ext cx="148752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7164360" y="5084640"/>
            <a:ext cx="1606680" cy="1462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71240" y="404280"/>
            <a:ext cx="694548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нтрольно-измерительные материал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лимпиадные зад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ес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ексты для различных видов разбо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ворческие зад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Олимпиады по русскому языку  должны продемонстрировать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631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ладение орфоэпическими нормами русского литературного языка (ударение, произношение твердых и мягких согласных, непроизносимые согласные и т. д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нание истории русского алфавита и основных этапов становления русской орфограф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нание семантической системы современного русского литературного языка, элементарную осведомленность в происхождении слов и понимание закономерностей исторического развития лексического значения сло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нание русской фразеологии и умение анализировать функционирование фразеологизмов в художественном текст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0:28:25Z</dcterms:created>
  <dc:creator>Marina</dc:creator>
  <dc:description/>
  <dc:language>en-US</dc:language>
  <cp:lastModifiedBy>людмила</cp:lastModifiedBy>
  <dcterms:modified xsi:type="dcterms:W3CDTF">2022-10-25T07:29:00Z</dcterms:modified>
  <cp:revision>95</cp:revision>
  <dc:subject/>
  <dc:title>Педагогический совет   «Работа  с одаренными детьми  в современных условиях 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